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F57-BDB2-4E53-95D2-8B1E3F8D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0A0-8977-42B7-A58B-51CBF436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A2E-D201-47AC-8E8A-6A2F685E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E8A-664A-4D1C-B0FB-9A3A0C0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C5F0-D383-42E5-9C17-2D2A8EB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9D6D-1C69-40F3-9E44-56DE1A6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DFA-9B38-4912-A7FC-666DF53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589-41D4-478B-937E-54E544F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5FD1-3CB1-4DB6-8982-9467058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0420-0015-4280-B546-2F338765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B490-096E-4F93-B9E7-899490F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0C2-F24C-429A-8A3D-66236A22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9329-8D9F-4784-8DCD-361581B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CCA5-1A71-4CCD-A6BD-FC2DE62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529A-1CA9-45DB-9185-AD9CB288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FF2-7B42-4BBD-86F9-47778AE2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6D13-C5CC-421A-9DBF-DDD3B812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EDD6-C0F1-490B-87A5-A28A2F60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7A21-5617-458C-9953-6B25F598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64888-EB18-43E9-B6CA-3255C293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B081-4438-4907-9EDF-BEB302C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8F59-0934-4C63-A242-FB0303DB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725-FA56-4631-98CC-37E360D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466F-C6D2-4EBC-A629-37AA015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447B-7299-4321-964E-4575DEE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0F8D-4658-4333-89D3-CD98F82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A2DE-F366-4A36-91C5-DCFDC8E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28DC-AB3B-40EA-BEBB-EA40C9D3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26CA-5D09-4492-B34A-22C9D443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82DF-7F4D-463B-B5E0-DC7F65D4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E3AC-348E-4C92-B6A2-BE8A9CF9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F7BA-CBEE-4771-A133-9EE31B0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4BC8-D329-44E8-9D78-9151CC95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E66-D183-41F0-BE73-DD2EFD3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87F1-2EE6-4A14-88AC-146D9A24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62BF-299B-4BE5-827F-E96CEC92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0AF6-D6C0-4A57-87D8-1C4A913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BB9C-7C9B-4EDC-84BE-1FC101B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55E7-7115-4B7F-ADF9-572922F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399B-4388-4069-BA7F-ED61D73A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79D8-52DD-47ED-AF38-ABB7BA5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50C8-7C56-44FE-9DC1-3B2218FC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FA0D-D4D2-4D0B-A8A9-7B484167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FE5-A616-4118-86DF-3C1747F6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857-FBAB-4C71-AB71-43E7123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3FF-BD1B-473B-AC79-F64B97F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320-EAEA-4203-A2D5-04E5413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941-5A3A-436C-8C88-0A50E8B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CA2-EA27-4A69-A268-4E941263D63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E88-53FA-444A-9B8D-408D4D94248B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CC9-F86A-4574-8754-1805C511BFE2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E24-4BDD-4A45-ACDB-BBDF16D06AD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62160"/>
            <a:ext cx="8663040" cy="2030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2010 Data to help prepare our students for 2011 and beyon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14240" y="500076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work together with a common focus to extend our professional capacity ... 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student outcomes will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571680" y="25002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pend  5 minutes having a look and discussing the information displayed on the other thre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Act 4: DATA TAB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9997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rd the amount in each group for each strand and record the actual question numbers for  the BELOW section in the table provid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at concepts are we teaching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rom the information in front of you what are 3 specific areas/skills where we could target upcoming professional learn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LT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1427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For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EVERYONE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to  take responsibility for our results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To find out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strengths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and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weaknesses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of our curriculum deliver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To use NAPLAN data to inform our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future teaching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and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professional learn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214280" y="1714680"/>
            <a:ext cx="60008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your groups you will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Pairs of 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Test booklet (Gr 3 or G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Item Analysis (Gr 3 or G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Strea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Summary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2143080" y="1461240"/>
            <a:ext cx="4429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em Analysis Report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Assessment Program - Literacy and Numeracy Tests 2009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Year 3, Group: ALL, Class: 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Date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12/04/2010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me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9:03:29 AM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714240" y="607212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the Item Analysis Report  transfer the data for each question to look like the example giv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928800" y="2571840"/>
            <a:ext cx="7248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Naplan Pres.jpg"/>
          <p:cNvPicPr/>
          <p:nvPr/>
        </p:nvPicPr>
        <p:blipFill>
          <a:blip r:embed="rId1"/>
          <a:stretch/>
        </p:blipFill>
        <p:spPr>
          <a:xfrm>
            <a:off x="214200" y="474840"/>
            <a:ext cx="8572680" cy="61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151840" cy="3267000"/>
          </a:xfrm>
          <a:prstGeom prst="rect">
            <a:avLst/>
          </a:prstGeom>
          <a:ln w="0">
            <a:noFill/>
          </a:ln>
        </p:spPr>
      </p:pic>
      <p:pic>
        <p:nvPicPr>
          <p:cNvPr id="210" name="Content Placeholder 3" descr="Naplan Pres.jpg"/>
          <p:cNvPicPr/>
          <p:nvPr/>
        </p:nvPicPr>
        <p:blipFill>
          <a:blip r:embed="rId2"/>
          <a:stretch/>
        </p:blipFill>
        <p:spPr>
          <a:xfrm>
            <a:off x="428760" y="3500280"/>
            <a:ext cx="8215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 cutting the individual test pag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You must keep all info inside the lines of each qu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ct 2: SOR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500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ut out each question and sort into dimension and order them according to the difference between the state and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500040" y="3571920"/>
            <a:ext cx="7858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can be determined by these rankings? (Positives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are the implications for classroom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are the implications for curriculum plan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71680" y="578628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cuss in your group /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00040" y="20718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the two streamers provided to sort into 3 groups while still keeping in particular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ere above the st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as similar to the st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as below the stat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r parameters can change for this.  We only want a couple above and below  so it is arbit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0:58:11Z</dcterms:created>
  <dc:creator>Warwick Knuckey</dc:creator>
  <dc:description/>
  <dc:language>en-US</dc:language>
  <cp:lastModifiedBy>Warwick Knuckey</cp:lastModifiedBy>
  <dcterms:modified xsi:type="dcterms:W3CDTF">2010-11-08T04:05:25Z</dcterms:modified>
  <cp:revision>66</cp:revision>
  <dc:subject/>
  <dc:title>NAPLAN</dc:title>
</cp:coreProperties>
</file>